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83F-896F-4703-8609-5BC307C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3BC-C528-4D7A-9E1E-6DDE495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6F8-0CB0-4BC9-A410-F2315593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3B4-9682-46AF-9DD6-25EF0A8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493C-8954-4C4D-A872-703E9849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0CF-E859-4B71-A911-54B816F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D5CC-3117-4138-A2DD-2575A62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7163-C945-4AF0-AD1B-9E5BCD2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CDA-E4FD-4B81-8B35-ACC8CF9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F7BC-0516-46F7-B7A8-90AFC16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3D8-9F99-44BC-A8E5-181C59A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247-A485-418B-A3C5-7969303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EF11-D6DC-40F3-8CE0-7441078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BF9E-D09F-406B-B446-802C2AE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7987-3BDB-46DC-AD59-61C8892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CBF-A55B-4CD8-B510-7BA64DAF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E83A-1908-4232-84BE-35660F65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039-992C-492D-B0BF-0BD8369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D6E-0190-4B83-970A-D036CA7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445-810B-4E07-A9E8-0CDDFF1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24B-55A0-4E68-8691-2D7E105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85E-9221-4BD1-B73A-AA35DEA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CA4-A4A3-4D98-B0C4-B91A770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62E-4DD0-4DF5-AF5A-0FD5E29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8DC-731A-4145-99B2-8B20D3EFCA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9430-85A6-48EB-AC13-C3D8B25B62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2416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1 Ways to Improve Your Communication Ski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aking and Wri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k for what you w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ctive ver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gender neutral langu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te Source of Statistical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llustrate with personal 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ress E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it simple (KISS) Meth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aking and Wri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int verbal Pi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Conc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 Statements with Detai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ch Seman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ote Author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ult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ress e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aking and Wri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a Jour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personal Not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ffective business let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hort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e on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up with Current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Something Inspirat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 Nonverbal C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Your Postu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ss Appropriate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ke Hands Proper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nd to Impr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flex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Lik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it to Being Truthfu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athi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’t take yourself too serious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–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Negative Feel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receptive to New Ide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Responsi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pect the Other Person’s Point of 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gnize the Impact of Stress on 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Re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–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Your attitu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Good Man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gnize Manipulative Behav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gnize Condescending Man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Words that Hu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 Abrasive Behav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ndle Disagreements with 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e Productive Meet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Experienc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Importance of Ti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t a Good Personal 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and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08400" y="1725480"/>
            <a:ext cx="2525760" cy="3407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62320" y="314784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for Attend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 what you want to s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Fe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p Talking and Lis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before you 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lieve in your mess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Major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Out what your Listener wa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Acrony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Jarg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l Obje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Hum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ecdotes and St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k for feed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 your vocabul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-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Audible Pa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unciate Clear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actice Pronouncing Words Proper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ercise Tongue, Jaws and Li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s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-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ak more slow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ak fa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y Your Volu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ch your t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rd your vo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 to Lis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the Speak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reen Out Distr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ntrate on the Mess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en to Tapes while you comm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Daydream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cept Acc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mind map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aking and Wri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Purpose Stat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Negative Emotions to Pa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t to the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lain Abstract wo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bsolutes and Generalities Sparing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18:04:05Z</dcterms:created>
  <dc:creator/>
  <dc:description/>
  <dc:language>en-US</dc:language>
  <cp:lastModifiedBy>system8</cp:lastModifiedBy>
  <dcterms:modified xsi:type="dcterms:W3CDTF">2008-08-05T07:22:16Z</dcterms:modified>
  <cp:revision>5</cp:revision>
  <dc:subject/>
  <dc:title/>
</cp:coreProperties>
</file>